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719-476D-45EA-A5F2-72BD3FBC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FB6-B85F-4749-B7AD-7B2C4A88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41F-F361-4616-8918-3887BC95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097-E406-4C7E-AD8B-312BE270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FB7-76A4-423E-B801-328D79EA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F1B-62FB-4C31-93F1-ECAEF234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1B2-2437-41D1-B4E2-D5C6AE3F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FF4-B0C3-467B-900C-6E12C3EB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2E3-C0A4-4558-998D-6222A320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B07-A8B8-410C-BD67-5BB3708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FF4-A9EE-4D40-A799-7D5A4FF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5BA-92C2-4B9B-8AD5-5EFB0741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996C-C7CD-4C4F-A347-4E3D43976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1218960"/>
            <a:ext cx="5181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’ec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ercices de vocabul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veau A1 – classe V 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380880" y="304920"/>
            <a:ext cx="3384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ts dans la salle de cla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Cochez les bonnes repo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ns une salle de classe nous pouvons obser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 professeu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 tableau no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cahi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fle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stylos a bil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gatea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rapporte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 lat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ez les objets et leurs n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professeu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tableau no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 cah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 manu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 stylos a bi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 cray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 rappor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 lat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latte.jpg"/>
          <p:cNvPicPr/>
          <p:nvPr/>
        </p:nvPicPr>
        <p:blipFill>
          <a:blip r:embed="rId1"/>
          <a:stretch/>
        </p:blipFill>
        <p:spPr>
          <a:xfrm>
            <a:off x="5867280" y="1295280"/>
            <a:ext cx="1650960" cy="16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professeur.jpg"/>
          <p:cNvPicPr/>
          <p:nvPr/>
        </p:nvPicPr>
        <p:blipFill>
          <a:blip r:embed="rId2"/>
          <a:stretch/>
        </p:blipFill>
        <p:spPr>
          <a:xfrm>
            <a:off x="6019920" y="1600200"/>
            <a:ext cx="850680" cy="116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rapporteur.jpg"/>
          <p:cNvPicPr/>
          <p:nvPr/>
        </p:nvPicPr>
        <p:blipFill>
          <a:blip r:embed="rId3"/>
          <a:stretch/>
        </p:blipFill>
        <p:spPr>
          <a:xfrm>
            <a:off x="6019920" y="3962520"/>
            <a:ext cx="119376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stylo.jpg"/>
          <p:cNvPicPr/>
          <p:nvPr/>
        </p:nvPicPr>
        <p:blipFill>
          <a:blip r:embed="rId4"/>
          <a:stretch/>
        </p:blipFill>
        <p:spPr>
          <a:xfrm>
            <a:off x="6019920" y="2819520"/>
            <a:ext cx="622080" cy="10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tableau.jpg"/>
          <p:cNvPicPr/>
          <p:nvPr/>
        </p:nvPicPr>
        <p:blipFill>
          <a:blip r:embed="rId5"/>
          <a:stretch/>
        </p:blipFill>
        <p:spPr>
          <a:xfrm>
            <a:off x="6172200" y="4724280"/>
            <a:ext cx="97776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ceza – Vocabular – Exercitii, ed. Booklet, Bucuresti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9:19:27Z</dcterms:created>
  <dc:creator>Anda</dc:creator>
  <dc:description/>
  <dc:language>en-US</dc:language>
  <cp:lastModifiedBy>Anda</cp:lastModifiedBy>
  <dcterms:modified xsi:type="dcterms:W3CDTF">2012-12-12T20:23:52Z</dcterms:modified>
  <cp:revision>5</cp:revision>
  <dc:subject/>
  <dc:title>L’ecole</dc:title>
</cp:coreProperties>
</file>